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jpeg" ContentType="image/jpeg"/>
  <Override PartName="/ppt/media/image22.wmf" ContentType="image/x-wmf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24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825F-474B-44D2-9F7B-7938D9FC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A26C-C7CC-4D9E-BEAF-2CF7148F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BCE5-5785-44C5-9AAC-871046F1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FC5D-E04F-4AE9-896C-612E520C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62F7-7207-4870-A1F4-21E36365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7FA-D5CC-42AA-8F52-23AA61D9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B0B6-B70D-4686-8113-6BFCA163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C9F5-8286-43C0-A688-DEDEF582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E60-F2BA-44E1-9F8C-781A92D5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2E73-C5F9-49C2-8394-0304768B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CF47-F5E1-4200-B8D3-7AA21F41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DB54-DC04-4D46-8099-D1D22BBC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38A1-AFCE-456B-9A34-4B35875F7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90720" y="1836720"/>
            <a:ext cx="7162560" cy="318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The Factor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that Affec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limat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4572000" y="6248520"/>
            <a:ext cx="4572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©Mark Place, 2009-2010</a:t>
            </a:r>
            <a:endParaRPr b="0" lang="en-US" sz="9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9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ww.LearnEarthScience.com</a:t>
            </a:r>
            <a:endParaRPr b="0" lang="en-US" sz="9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precip"/>
          <p:cNvPicPr/>
          <p:nvPr/>
        </p:nvPicPr>
        <p:blipFill>
          <a:blip r:embed="rId1"/>
          <a:stretch/>
        </p:blipFill>
        <p:spPr>
          <a:xfrm>
            <a:off x="2286000" y="901800"/>
            <a:ext cx="4570560" cy="5054400"/>
          </a:xfrm>
          <a:prstGeom prst="rect">
            <a:avLst/>
          </a:prstGeom>
          <a:ln w="0">
            <a:noFill/>
          </a:ln>
        </p:spPr>
      </p:pic>
      <p:sp>
        <p:nvSpPr>
          <p:cNvPr id="80" name="WordArt 5"/>
          <p:cNvSpPr txBox="1"/>
          <p:nvPr/>
        </p:nvSpPr>
        <p:spPr>
          <a:xfrm>
            <a:off x="6095880" y="0"/>
            <a:ext cx="286236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Orographic Effec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472680" y="449280"/>
            <a:ext cx="2910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erra Nevada Mount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www.geomart.com/images/raisedrelief/ny.jpg"/>
          <p:cNvPicPr/>
          <p:nvPr/>
        </p:nvPicPr>
        <p:blipFill>
          <a:blip r:embed="rId1"/>
          <a:stretch/>
        </p:blipFill>
        <p:spPr>
          <a:xfrm>
            <a:off x="152280" y="-36360"/>
            <a:ext cx="8839440" cy="68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987480" y="790560"/>
            <a:ext cx="7170840" cy="5276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1660680" y="460836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indward sides of the Adirondacks &amp; Catskills receive a great deal more precip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V="1">
            <a:off x="4572000" y="2971440"/>
            <a:ext cx="22860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 flipV="1">
            <a:off x="4572000" y="4419360"/>
            <a:ext cx="9525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6848640" y="790560"/>
            <a:ext cx="190476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eeward sides of the Adirondacks &amp; Catskills receive much less precip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1"/>
          <p:cNvSpPr/>
          <p:nvPr/>
        </p:nvSpPr>
        <p:spPr>
          <a:xfrm flipH="1">
            <a:off x="6553080" y="1752480"/>
            <a:ext cx="6098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 flipH="1">
            <a:off x="5638680" y="2057400"/>
            <a:ext cx="137160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838080" y="571680"/>
            <a:ext cx="7467840" cy="6057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ard Sale"/>
              </a:rPr>
              <a:t>How does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ard Sale"/>
              </a:rPr>
              <a:t>Orographic Effe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ard Sale"/>
              </a:rPr>
              <a:t>affect clima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indward Sid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eward Sid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2200320" y="3962520"/>
            <a:ext cx="4743360" cy="26096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4952880" y="266688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ol, mo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4800600" y="3209760"/>
            <a:ext cx="24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rm, 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17"/>
          <p:cNvGrpSpPr/>
          <p:nvPr/>
        </p:nvGrpSpPr>
        <p:grpSpPr>
          <a:xfrm>
            <a:off x="609480" y="830160"/>
            <a:ext cx="8153280" cy="5435280"/>
            <a:chOff x="609480" y="830160"/>
            <a:chExt cx="8153280" cy="5435280"/>
          </a:xfrm>
        </p:grpSpPr>
        <p:sp>
          <p:nvSpPr>
            <p:cNvPr id="98" name="AutoShape 12"/>
            <p:cNvSpPr/>
            <p:nvPr/>
          </p:nvSpPr>
          <p:spPr>
            <a:xfrm>
              <a:off x="609480" y="830160"/>
              <a:ext cx="8153280" cy="543528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16" descr=""/>
            <p:cNvPicPr/>
            <p:nvPr/>
          </p:nvPicPr>
          <p:blipFill>
            <a:blip r:embed="rId2"/>
            <a:stretch/>
          </p:blipFill>
          <p:spPr>
            <a:xfrm>
              <a:off x="1106280" y="1427760"/>
              <a:ext cx="7161120" cy="4239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elandtemp"/>
          <p:cNvPicPr/>
          <p:nvPr/>
        </p:nvPicPr>
        <p:blipFill>
          <a:blip r:embed="rId1"/>
          <a:stretch/>
        </p:blipFill>
        <p:spPr>
          <a:xfrm>
            <a:off x="1417680" y="990720"/>
            <a:ext cx="6307200" cy="5521320"/>
          </a:xfrm>
          <a:prstGeom prst="rect">
            <a:avLst/>
          </a:prstGeom>
          <a:ln w="0">
            <a:noFill/>
          </a:ln>
        </p:spPr>
      </p:pic>
      <p:sp>
        <p:nvSpPr>
          <p:cNvPr id="101" name="WordArt 6"/>
          <p:cNvSpPr txBox="1"/>
          <p:nvPr/>
        </p:nvSpPr>
        <p:spPr>
          <a:xfrm>
            <a:off x="6122880" y="174600"/>
            <a:ext cx="2862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Elevati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319320" y="304920"/>
            <a:ext cx="243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5 degrees C/100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727280" y="1095480"/>
            <a:ext cx="5688000" cy="4667040"/>
          </a:xfrm>
          <a:prstGeom prst="rect">
            <a:avLst/>
          </a:prstGeom>
          <a:ln w="0">
            <a:noFill/>
          </a:ln>
        </p:spPr>
      </p:pic>
      <p:sp>
        <p:nvSpPr>
          <p:cNvPr id="104" name="WordArt 5"/>
          <p:cNvSpPr txBox="1"/>
          <p:nvPr/>
        </p:nvSpPr>
        <p:spPr>
          <a:xfrm>
            <a:off x="6122880" y="174600"/>
            <a:ext cx="2862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Elevati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230640" y="4697280"/>
            <a:ext cx="3500280" cy="281160"/>
          </a:xfrm>
          <a:prstGeom prst="rect">
            <a:avLst/>
          </a:prstGeom>
          <a:solidFill>
            <a:srgbClr val="0000ff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410080" y="2514600"/>
            <a:ext cx="35211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14 of the ES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live in the troposphere.  Temperature decr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le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 flipH="1">
            <a:off x="5257440" y="38098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tmp_monthly_07"/>
          <p:cNvPicPr/>
          <p:nvPr/>
        </p:nvPicPr>
        <p:blipFill>
          <a:blip r:embed="rId1"/>
          <a:stretch/>
        </p:blipFill>
        <p:spPr>
          <a:xfrm>
            <a:off x="838080" y="380880"/>
            <a:ext cx="7467840" cy="5599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666720" y="6095880"/>
            <a:ext cx="78105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ing summer, temperature is strongly controlled by elevation -- cold at the higher reaches of the Alaska and Brooks Ranges, and warmer in the lowla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838080" y="571680"/>
            <a:ext cx="7467840" cy="6057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ard Sale"/>
              </a:rPr>
              <a:t>How does elev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ard Sale"/>
              </a:rPr>
              <a:t>affect clima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elevation _________, the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ual temperature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3352680" y="3657600"/>
            <a:ext cx="0" cy="2209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 flipH="1">
            <a:off x="3321000" y="5867280"/>
            <a:ext cx="2286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192480" y="601992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 rot="16200000">
            <a:off x="2147040" y="44845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3581280" y="3657600"/>
            <a:ext cx="1981440" cy="1981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3567240" y="24210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5334120" y="29354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5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16"/>
          <p:cNvGrpSpPr/>
          <p:nvPr/>
        </p:nvGrpSpPr>
        <p:grpSpPr>
          <a:xfrm>
            <a:off x="1981080" y="380880"/>
            <a:ext cx="5257440" cy="6152760"/>
            <a:chOff x="1981080" y="380880"/>
            <a:chExt cx="5257440" cy="6152760"/>
          </a:xfrm>
        </p:grpSpPr>
        <p:sp>
          <p:nvSpPr>
            <p:cNvPr id="121" name="AutoShape 12"/>
            <p:cNvSpPr/>
            <p:nvPr/>
          </p:nvSpPr>
          <p:spPr>
            <a:xfrm>
              <a:off x="1981080" y="380880"/>
              <a:ext cx="5257440" cy="6152760"/>
            </a:xfrm>
            <a:custGeom>
              <a:avLst/>
              <a:gdLst>
                <a:gd name="textAreaLeft" fmla="*/ 340560 w 5257440"/>
                <a:gd name="textAreaRight" fmla="*/ 4916880 w 5257440"/>
                <a:gd name="textAreaTop" fmla="*/ 340560 h 6152760"/>
                <a:gd name="textAreaBottom" fmla="*/ 5812200 h 6152760"/>
              </a:gdLst>
              <a:ahLst/>
              <a:rect l="textAreaLeft" t="textAreaTop" r="textAreaRight" b="textAreaBottom"/>
              <a:pathLst>
                <a:path w="21600" h="25278">
                  <a:moveTo>
                    <a:pt x="4780" y="0"/>
                  </a:moveTo>
                  <a:arcTo wR="4780" hR="4780" stAng="16200000" swAng="-5400000"/>
                  <a:lnTo>
                    <a:pt x="0" y="20498"/>
                  </a:lnTo>
                  <a:arcTo wR="4780" hR="4780" stAng="10800000" swAng="-5400000"/>
                  <a:lnTo>
                    <a:pt x="16820" y="25278"/>
                  </a:lnTo>
                  <a:arcTo wR="4780" hR="4780" stAng="5400000" swAng="-5400000"/>
                  <a:lnTo>
                    <a:pt x="21600" y="4780"/>
                  </a:lnTo>
                  <a:arcTo wR="4780" hR="478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15" descr=""/>
            <p:cNvPicPr/>
            <p:nvPr/>
          </p:nvPicPr>
          <p:blipFill>
            <a:blip r:embed="rId2"/>
            <a:stretch/>
          </p:blipFill>
          <p:spPr>
            <a:xfrm>
              <a:off x="2700360" y="639360"/>
              <a:ext cx="3818160" cy="563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838080" y="571680"/>
            <a:ext cx="7467840" cy="5715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dentify five factor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at affect climat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d explai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ow each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ffects climat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5"/>
          <p:cNvSpPr txBox="1"/>
          <p:nvPr/>
        </p:nvSpPr>
        <p:spPr>
          <a:xfrm>
            <a:off x="6122880" y="174600"/>
            <a:ext cx="2862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Ocean Current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763120" cy="5030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sst_brown"/>
          <p:cNvPicPr/>
          <p:nvPr/>
        </p:nvPicPr>
        <p:blipFill>
          <a:blip r:embed="rId1"/>
          <a:stretch/>
        </p:blipFill>
        <p:spPr>
          <a:xfrm>
            <a:off x="1600200" y="685800"/>
            <a:ext cx="5943600" cy="59436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6"/>
          <p:cNvSpPr txBox="1"/>
          <p:nvPr/>
        </p:nvSpPr>
        <p:spPr>
          <a:xfrm>
            <a:off x="5105520" y="5715000"/>
            <a:ext cx="20286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Gulf Stre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838080" y="1409760"/>
            <a:ext cx="7467840" cy="403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ard Sale"/>
              </a:rPr>
              <a:t>How do ocean curr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ard Sale"/>
              </a:rPr>
              <a:t>affect clima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r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urrents: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rm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urrents: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ol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9f323"/>
                </a:solidFill>
                <a:latin typeface="Arial"/>
              </a:rPr>
              <a:t>Veg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ttp://img.bhs4.com/b1/d/b1dc401ed8d09f2b67fea16e98cc2e93b1ce75a2_large.jpg"/>
          <p:cNvPicPr/>
          <p:nvPr/>
        </p:nvPicPr>
        <p:blipFill>
          <a:blip r:embed="rId1"/>
          <a:stretch/>
        </p:blipFill>
        <p:spPr>
          <a:xfrm>
            <a:off x="152280" y="111456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img.bhs4.com/b1/d/b1dc401ed8d09f2b67fea16e98cc2e93b1ce75a2_large.jpg"/>
          <p:cNvPicPr/>
          <p:nvPr/>
        </p:nvPicPr>
        <p:blipFill>
          <a:blip r:embed="rId2"/>
          <a:stretch/>
        </p:blipFill>
        <p:spPr>
          <a:xfrm>
            <a:off x="8470800" y="33480"/>
            <a:ext cx="657360" cy="655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ttp://www.eoearth.org/files/172101_172200/172155/sap3-1-final-all026.png"/>
          <p:cNvPicPr/>
          <p:nvPr/>
        </p:nvPicPr>
        <p:blipFill>
          <a:blip r:embed="rId3"/>
          <a:stretch/>
        </p:blipFill>
        <p:spPr>
          <a:xfrm>
            <a:off x="25560" y="797040"/>
            <a:ext cx="8980200" cy="60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img.bhs4.com/b1/d/b1dc401ed8d09f2b67fea16e98cc2e93b1ce75a2_large.jpg"/>
          <p:cNvPicPr/>
          <p:nvPr/>
        </p:nvPicPr>
        <p:blipFill>
          <a:blip r:embed="rId2"/>
          <a:stretch/>
        </p:blipFill>
        <p:spPr>
          <a:xfrm>
            <a:off x="8470800" y="33480"/>
            <a:ext cx="657360" cy="655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ttp://tips.woodlandtree.com/images/transpiration.gif"/>
          <p:cNvPicPr/>
          <p:nvPr/>
        </p:nvPicPr>
        <p:blipFill>
          <a:blip r:embed="rId3"/>
          <a:stretch/>
        </p:blipFill>
        <p:spPr>
          <a:xfrm>
            <a:off x="0" y="33480"/>
            <a:ext cx="3247920" cy="4057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http://www.shoalwater.nsw.gov.au/Education/images/experiments/transpiration_experiment.jpg"/>
          <p:cNvPicPr/>
          <p:nvPr/>
        </p:nvPicPr>
        <p:blipFill>
          <a:blip r:embed="rId4"/>
          <a:stretch/>
        </p:blipFill>
        <p:spPr>
          <a:xfrm>
            <a:off x="3352680" y="3809880"/>
            <a:ext cx="58057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Current Sea Surface Temperature Plot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4"/>
          <p:cNvSpPr txBox="1"/>
          <p:nvPr/>
        </p:nvSpPr>
        <p:spPr>
          <a:xfrm>
            <a:off x="6078600" y="144360"/>
            <a:ext cx="2862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Latitud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838080" y="571680"/>
            <a:ext cx="7467840" cy="5715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ard Sale"/>
              </a:rPr>
              <a:t>How does latitu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Yard Sale"/>
              </a:rPr>
              <a:t>affect clima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latitude ________, the ave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nual temperature 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3"/>
          <p:cNvSpPr/>
          <p:nvPr/>
        </p:nvSpPr>
        <p:spPr>
          <a:xfrm>
            <a:off x="3352680" y="3429000"/>
            <a:ext cx="0" cy="2209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 flipH="1">
            <a:off x="3321000" y="5638680"/>
            <a:ext cx="2286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192480" y="579132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°           Latitude      9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2147040" y="42559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3581280" y="3429000"/>
            <a:ext cx="1981440" cy="1981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334120" y="2362320"/>
            <a:ext cx="23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cr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3301920" y="183528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ncr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2"/>
          <p:cNvGrpSpPr/>
          <p:nvPr/>
        </p:nvGrpSpPr>
        <p:grpSpPr>
          <a:xfrm>
            <a:off x="325440" y="1504800"/>
            <a:ext cx="8623440" cy="4127400"/>
            <a:chOff x="325440" y="1504800"/>
            <a:chExt cx="8623440" cy="4127400"/>
          </a:xfrm>
        </p:grpSpPr>
        <p:sp>
          <p:nvSpPr>
            <p:cNvPr id="57" name="AutoShape 11"/>
            <p:cNvSpPr/>
            <p:nvPr/>
          </p:nvSpPr>
          <p:spPr>
            <a:xfrm>
              <a:off x="325440" y="1504800"/>
              <a:ext cx="8623440" cy="412740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Group 21"/>
            <p:cNvGrpSpPr/>
            <p:nvPr/>
          </p:nvGrpSpPr>
          <p:grpSpPr>
            <a:xfrm>
              <a:off x="511200" y="2034720"/>
              <a:ext cx="8251920" cy="3067200"/>
              <a:chOff x="511200" y="2034720"/>
              <a:chExt cx="8251920" cy="3067200"/>
            </a:xfrm>
          </p:grpSpPr>
          <p:pic>
            <p:nvPicPr>
              <p:cNvPr id="59" name="Picture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511200" y="2034720"/>
                <a:ext cx="4083120" cy="306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702320" y="2034720"/>
                <a:ext cx="4060800" cy="3044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7"/>
          <p:cNvSpPr/>
          <p:nvPr/>
        </p:nvSpPr>
        <p:spPr>
          <a:xfrm>
            <a:off x="228600" y="93600"/>
            <a:ext cx="8686800" cy="744480"/>
          </a:xfrm>
          <a:prstGeom prst="roundRect">
            <a:avLst>
              <a:gd name="adj" fmla="val 16667"/>
            </a:avLst>
          </a:prstGeom>
          <a:solidFill>
            <a:srgbClr val="ffffff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3541680" cy="5181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743360" y="993600"/>
            <a:ext cx="3519720" cy="5137200"/>
          </a:xfrm>
          <a:prstGeom prst="rect">
            <a:avLst/>
          </a:prstGeom>
          <a:ln w="0">
            <a:noFill/>
          </a:ln>
        </p:spPr>
      </p:pic>
      <p:sp>
        <p:nvSpPr>
          <p:cNvPr id="64" name="WordArt 6"/>
          <p:cNvSpPr txBox="1"/>
          <p:nvPr/>
        </p:nvSpPr>
        <p:spPr>
          <a:xfrm>
            <a:off x="330120" y="152280"/>
            <a:ext cx="8483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loseness to Large Bodies of Wat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-2028960" y="-21031200"/>
          <a:ext cx="8229600" cy="5176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23" descr=" "/>
          <p:cNvPicPr/>
          <p:nvPr/>
        </p:nvPicPr>
        <p:blipFill>
          <a:blip r:embed="rId1"/>
          <a:stretch/>
        </p:blipFill>
        <p:spPr>
          <a:xfrm>
            <a:off x="6629400" y="1523880"/>
            <a:ext cx="2284560" cy="369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-2028960" y="-20513520"/>
          <a:ext cx="208080" cy="485996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48599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 </a:t>
                      </a:r>
                      <a:r>
                        <a:rPr b="0" lang="en-US" sz="13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                                                                                     </a:t>
                      </a:r>
                      <a:r>
                        <a:rPr b="0" lang="en-US" sz="13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  </a:t>
                      </a:r>
                      <a:r>
                        <a:rPr b="0" lang="en-US" sz="132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Picture 17" descr=" "/>
          <p:cNvPicPr/>
          <p:nvPr/>
        </p:nvPicPr>
        <p:blipFill>
          <a:blip r:embed="rId2"/>
          <a:stretch/>
        </p:blipFill>
        <p:spPr>
          <a:xfrm>
            <a:off x="228600" y="1562040"/>
            <a:ext cx="2382840" cy="3733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5" descr="Polar projection"/>
          <p:cNvPicPr/>
          <p:nvPr/>
        </p:nvPicPr>
        <p:blipFill>
          <a:blip r:embed="rId3"/>
          <a:stretch/>
        </p:blipFill>
        <p:spPr>
          <a:xfrm>
            <a:off x="2728800" y="1585800"/>
            <a:ext cx="3686400" cy="3686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838080" y="571680"/>
            <a:ext cx="7467840" cy="6057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Yard Sale"/>
              </a:rPr>
              <a:t>How does closeness to a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Yard Sale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Yard Sale"/>
              </a:rPr>
              <a:t>body of water affect clim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er __________ the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 summers.  _______ wi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1"/>
          <a:stretch/>
        </p:blipFill>
        <p:spPr>
          <a:xfrm>
            <a:off x="1144440" y="3429000"/>
            <a:ext cx="3427560" cy="29275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4784760" y="3541680"/>
            <a:ext cx="3292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y  B is closer to a large body of wa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s temperature line is flatter (moderat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2395440" y="180972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de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1693800" y="2990880"/>
            <a:ext cx="282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ies A &amp; B are loc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same latitu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1066680" y="22860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o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4800600" y="2286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r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cli11"/>
          <p:cNvPicPr/>
          <p:nvPr/>
        </p:nvPicPr>
        <p:blipFill>
          <a:blip r:embed="rId1"/>
          <a:stretch/>
        </p:blipFill>
        <p:spPr>
          <a:xfrm>
            <a:off x="914400" y="1623960"/>
            <a:ext cx="7315200" cy="3610080"/>
          </a:xfrm>
          <a:prstGeom prst="rect">
            <a:avLst/>
          </a:prstGeom>
          <a:ln w="0">
            <a:noFill/>
          </a:ln>
        </p:spPr>
      </p:pic>
      <p:sp>
        <p:nvSpPr>
          <p:cNvPr id="78" name="WordArt 7"/>
          <p:cNvSpPr txBox="1"/>
          <p:nvPr/>
        </p:nvSpPr>
        <p:spPr>
          <a:xfrm>
            <a:off x="6095880" y="0"/>
            <a:ext cx="286236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Orographic Effec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ush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02:02:27Z</dcterms:created>
  <dc:creator>Mark Place</dc:creator>
  <dc:description/>
  <dc:language>en-US</dc:language>
  <cp:lastModifiedBy>Builder</cp:lastModifiedBy>
  <dcterms:modified xsi:type="dcterms:W3CDTF">2014-01-29T14:56:19Z</dcterms:modified>
  <cp:revision>34</cp:revision>
  <dc:subject/>
  <dc:title>Factors that Affect Climate</dc:title>
</cp:coreProperties>
</file>